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A10-9015-43EF-90EB-9C5D6150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DF47-DF2F-4F22-8E50-659E63C7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CED5-1579-4249-8A60-51567039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E1B-6ABC-46F9-AC08-ADF3048C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179-ED3F-411D-AC30-7D1C1A47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93A-8975-41EE-A1A4-9675AC4D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7E69-F136-49DC-B370-DF364F72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836-13CE-436A-B005-A3CABC78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5F2-DCC7-4573-985F-869952B1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3EFC-DFA2-4A76-A178-73EF87A0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AB3-9B0C-47D3-991E-5A8E82B7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6F57-A22A-4F6E-B5F5-6DFE1D48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AD5C-B78A-4D0E-8E0A-C1786DF58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Hayden Cal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666880" y="1752480"/>
            <a:ext cx="376236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Imprint MT Shadow"/>
              </a:rPr>
              <a:t>Vocabulary 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Imprint MT Shadow"/>
              <a:ea typeface="Imprint MT Shadow"/>
            </a:endParaRPr>
          </a:p>
        </p:txBody>
      </p:sp>
    </p:spTree>
  </p:cSld>
  <p:transition spd="slow" advTm="7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14600" y="1828800"/>
            <a:ext cx="3710160" cy="19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Imprint MT Shadow"/>
              </a:rPr>
              <a:t>THE EN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Imprint MT Shadow"/>
              <a:ea typeface="Imprint MT Shadow"/>
            </a:endParaRPr>
          </a:p>
        </p:txBody>
      </p:sp>
    </p:spTree>
  </p:cSld>
  <p:transition advTm="7000">
    <p:wheel spokes="8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-Mai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electronic mail which allows individuals with an account to send messages to another person with an e-mail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R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internet relay chat was developed in 1988 by Jarkko Oikarinen and allows instant online communicating with someone else who is also online by typing messages back and fo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B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bulletin board service allows a user to participate in a discussion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TT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hypertext transfer protocol is used to rapidly transfer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T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file transfer protocol is used to rapidly transfer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LN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a program used on networks such as the internet to allow users to remotely log on to a server on the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blinds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33526E-006 L 0.36771 -0.51653 E">
                                      <p:cBhvr>
                                        <p:cTn id="47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op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one of the first widespread internet browsing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ran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a network used by a single organization and only accessible by authorized u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irewa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a network security system that prevents unauthorized network ac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532 0.74613 C 0.48577 0.74543 0.47587 0.74774 0.46667 0.74404 C 0.46459 0.74312 0.46702 0.7378 0.46823 0.73549 C 0.47084 0.7304 0.47934 0.72023 0.4842 0.71653 C 0.48837 0.71329 0.49688 0.70798 0.49688 0.70821 C 0.4974 0.70589 0.5 0.70173 0.49844 0.70173 C 0.49167 0.70173 0.47518 0.7126 0.46667 0.71445 C 0.45556 0.72324 0.44254 0.72578 0.43021 0.73133 C 0.43125 0.72139 0.4316 0.71144 0.43334 0.70173 C 0.43386 0.69919 0.43559 0.69757 0.43646 0.69549 C 0.45104 0.66497 0.46841 0.65457 0.41111 0.70589 C 0.41163 0.70381 0.41163 0.70127 0.4125 0.69965 C 0.41563 0.6948 0.43021 0.68485 0.4349 0.68277 C 0.43594 0.68139 0.43646 0.67954 0.4382 0.67838 C 0.44254 0.67468 0.44636 0.67792 0.4382 0.67422 C 0.43143 0.67699 0.42726 0.68347 0.42049 0.68693 C 0.41424 0.6904 0.40157 0.69757 0.40157 0.6978 C 0.39948 0.69688 0.39636 0.69803 0.39532 0.69549 C 0.39427 0.69295 0.39584 0.68948 0.39653 0.68693 C 0.40018 0.67815 0.40452 0.66913 0.41111 0.66358 C 0.41424 0.66058 0.42049 0.65526 0.42049 0.65549 C 0.40243 0.64717 0.38681 0.66196 0.37153 0.67214 C 0.36841 0.65942 0.37535 0.65803 0.38264 0.65318 C 0.38681 0.6474 0.39653 0.63838 0.39653 0.63861 C 0.3974 0.6363 0.40018 0.63237 0.39844 0.63191 C 0.39028 0.62936 0.37674 0.63607 0.36823 0.63838 C 0.36615 0.63977 0.36424 0.64139 0.36198 0.64254 C 0.3599 0.64347 0.35434 0.64717 0.35556 0.64462 C 0.35764 0.64046 0.36216 0.6393 0.36459 0.6363 C 0.37049 0.63075 0.37257 0.62659 0.37934 0.62358 C 0.38403 0.61734 0.39462 0.61318 0.37934 0.61711 C 0.36615 0.62913 0.35486 0.64416 0.34132 0.65526 C 0.3316 0.66335 0.32118 0.67052 0.31094 0.67838 C 0.29861 0.68809 0.28438 0.69087 0.27101 0.69965 C 0.25295 0.69618 0.23542 0.69295 0.21754 0.68902 C 0.19063 0.68324 0.16476 0.65919 0.15018 0.62983 C 0.14011 0.60809 0.13629 0.58196 0.12483 0.56 C 0.12153 0.54173 0.11597 0.52231 0.10886 0.50543 C 0.10452 0.45688 0.10382 0.40601 0.11597 0.35954 C 0.11875 0.33156 0.12674 0.31006 0.13663 0.28555 C 0.14254 0.26821 0.14809 0.24925 0.15556 0.2326 C 0.179 0.17942 0.15087 0.24601 0.17396 0.19653 C 0.18872 0.16624 0.20052 0.13341 0.21754 0.10589 C 0.22136 0.09063 0.22587 0.0911 0.2349 0.08046 C 0.23663 0.07815 0.23785 0.0763 0.23924 0.07422 C 0.2415 0.07121 0.24254 0.06774 0.24445 0.06543 C 0.25313 0.0541 0.25295 0.05688 0.26146 0.05063 C 0.26476 0.04855 0.27275 0.04185 0.27622 0.04 C 0.279 0.03838 0.28542 0.03584 0.28542 0.03607 C 0.29254 0.03653 0.29966 0.03561 0.30643 0.03792 C 0.30851 0.03861 0.30903 0.04277 0.31094 0.04439 C 0.325 0.05641 0.33785 0.06589 0.35087 0.08046 C 0.36025 0.09087 0.3717 0.09734 0.38056 0.10774 C 0.40591 0.13595 0.4224 0.16555 0.4349 0.20509 C 0.43889 0.24393 0.43837 0.28277 0.42379 0.31722 C 0.4191 0.34913 0.40677 0.36855 0.39219 0.39514 C 0.38264 0.41295 0.37153 0.4326 0.35886 0.44624 C 0.33316 0.47376 0.35538 0.44624 0.33177 0.46728 C 0.30191 0.49341 0.27761 0.52231 0.24132 0.52855 C 0.21771 0.53919 0.19445 0.53063 0.16997 0.52855 C 0.13056 0.51445 0.08907 0.51191 0.04931 0.49896 C 0.01094 0.48624 -0.02743 0.47052 -0.0651 0.45457 C -0.09288 0.44277 -0.1158 0.43907 -0.14114 0.41457 C -0.16666 0.39006 -0.19392 0.36624 -0.21736 0.33826 C -0.23993 0.31098 -0.22448 0.3274 -0.246 0.29618 C -0.26076 0.27491 -0.28038 0.25387 -0.29357 0.23052 C -0.29687 0.22474 -0.29826 0.21734 -0.30156 0.21156 C -0.31718 0.18335 -0.30573 0.21503 -0.31892 0.18404 C -0.32934 0.15954 -0.33993 0.13433 -0.35069 0.11006 C -0.36059 0.08763 -0.37066 0.06774 -0.37448 0.04208 C -0.37448 0.03815 -0.37396 -0.03052 -0.37135 -0.05295 C -0.36892 -0.07353 -0.36319 -0.09387 -0.36024 -0.11422 C -0.35955 -0.11908 -0.35295 -0.12555 -0.35069 -0.12902 C -0.34462 -0.1385 -0.3368 -0.15029 -0.32847 -0.15653 C -0.31406 -0.1674 -0.28715 -0.16694 -0.27291 -0.16925 C -0.23368 -0.16809 -0.21319 -0.16694 -0.17934 -0.16278 C -0.16528 -0.15815 -0.15069 -0.15746 -0.1368 -0.15445 C -0.13385 -0.15307 -0.13125 -0.15122 -0.12882 -0.15029 C -0.12534 -0.14913 -0.12187 -0.14937 -0.11892 -0.14798 C -0.11649 -0.14659 -0.11389 -0.14335 -0.11111 -0.14174 C -0.10833 -0.13989 -0.10486 -0.13919 -0.10156 -0.13757 C -0.09722 -0.13549 -0.09305 -0.13364 -0.08889 -0.1311 C -0.08038 -0.12555 -0.06875 -0.11908 -0.06024 -0.11214 C -0.05729 -0.1096 -0.05521 -0.1059 -0.05225 -0.10359 C -0.04288 -0.09596 -0.03177 -0.09017 -0.02222 -0.08254 C -0.00677 -0.07029 0.01389 -0.05827 0.02222 -0.03607 C 0.0217 -0.02983 0.02222 -0.02312 0.02066 -0.01711 C 0.01997 -0.0148 0.01754 -0.01434 0.01597 -0.01272 C 0.00851 -0.00486 0.01094 1.44509E-006 -2.5E-006 1.44509E-006 E">
                                      <p:cBhvr>
                                        <p:cTn id="70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xtran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n extended intranet that provides various level of access to authorized members of the pub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nline Profil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marketing technique that collects online data about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ok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small files that contain information about the web sites an individual has vis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hecker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78 0.70798 C 0.025 0.69457 0.00052 0.65341 0.00347 0.64301 C 0.00364 0.64509 0.06545 0.677 0.06545 0.67468 C 0.06545 0.67168 0.04687 0.64948 0.04635 0.64717 C 0.04583 0.64555 0.04062 0.61827 0.03993 0.61757 C 0.0401 0.61966 -0.01476 0.6726 -0.01407 0.6726 C -0.01337 0.6726 0.0243 0.66914 0.0243 0.66682 C 0.0243 0.63931 0.02361 0.63885 0.02187 0.61295 C 0.01944 0.57549 0.01684 0.53989 0.01389 0.50266 C 0.01198 0.48046 0.01076 0.45804 0.00902 0.43584 C 0.00659 0.40555 0.00399 0.37549 0.00156 0.3452 C -0.00243 0.29642 -0.00434 0.24601 -0.00955 0.19838 C -0.01007 0.18451 -0.01111 0.17665 -0.01198 0.1637 C -0.01059 0.12717 -0.00973 0.09064 -0.00886 0.05388 C -0.00868 0.00902 -0.01858 -0.08 -0.00591 -0.08 E">
                                      <p:cBhvr>
                                        <p:cTn id="86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sen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collection of servers that offer Net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andwid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he amount of data and the speed at which the data can travel over the transmission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i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computer that accesses a server to reques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hecke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9757 1.21387E-006 C 0.94288 -0.00324 0.88941 -0.0074 0.83507 -0.0111 C 0.55468 -0.00671 0.28229 1.21387E-006 3.33333E-006 1.21387E-006 E">
                                      <p:cBhvr>
                                        <p:cTn id="10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98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S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gital subscri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thern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widely used protocol for lans that uses a bus or star topology and connects the network devices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tiquet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he etiquette that should be followed when using a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mb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toc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polo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he logical arrangement of the nodes on a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1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ireless Network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type of network that does not require the use of c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mb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twork Interface Ca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circuit board that goes into the base unit of a computer or other device in a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S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Internet service provider is a company that offers access to the internet for a 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eb S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a series of related web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35:37Z</dcterms:created>
  <dc:creator>771009</dc:creator>
  <dc:description/>
  <dc:language>en-US</dc:language>
  <cp:lastModifiedBy>771009</cp:lastModifiedBy>
  <dcterms:modified xsi:type="dcterms:W3CDTF">2009-04-17T15:27:39Z</dcterms:modified>
  <cp:revision>11</cp:revision>
  <dc:subject/>
  <dc:title> </dc:title>
</cp:coreProperties>
</file>